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71FB-226C-47D6-9695-273B946DB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BB7369-8F8A-4438-AB8A-E9C45B525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205-3C98-4E37-AA43-218777DC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E77-5EA8-4BE7-B71D-8F1847DD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628-A97B-4508-B71F-F7F7636C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C66-A145-4384-953F-76C07F94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3D2-9F9F-4C78-827D-FAC34D6C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8F8-3D11-4A8F-AF57-A5CF06B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7DF-49A6-4DC6-AA74-32614A25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204-7FBD-437D-A3C8-AB0F30E5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171-A5D4-4DF4-9C64-3C4542D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C38-CAA6-4C73-BD3E-A7A91CE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671-997A-404A-9F83-3120CF9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C3A-15C7-4729-99A3-1F2EE624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BB3A-4CF8-4F66-8080-23ECFE238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0040" y="5000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Иванова Татьяна Сергее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07:25Z</dcterms:modified>
  <cp:revision>5</cp:revision>
  <dc:subject/>
  <dc:title>Слайд 1</dc:title>
</cp:coreProperties>
</file>